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A86F-4D17-43B9-82AA-63F79BE8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C842-3FA2-41BC-AB66-8A3E7657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9008-B288-47D5-9DB5-99709790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7CD3-7BAD-41C8-8A59-7691A0BF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36B2-8A61-45F3-880D-E0370C7A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85EF-8D72-4BC1-B901-4CAD636E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1341-41D0-42D9-94FD-DE3C5101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83D3-5A8C-44F1-82E1-B58B148F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4C8B-1EFB-46A5-B620-72DD8976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48EC-7099-4C26-9A27-4425B485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C435-A7A5-4347-813C-76C2EE32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DA18-E14B-4ADF-BD66-56FB8ABC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A79E-F7BF-4928-BF56-EF815AD5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A253-497A-4CC9-BB9C-F125A5E6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6AC9-08CC-4240-8799-DEFE704D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134A-7C95-47C0-AF17-70D422D1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896F-8D45-4849-833B-E0600AC9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4E4-0D3B-4A5F-900F-61498B08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49B9-6AA4-46BA-AEEA-E9A1E8BF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D8E0-D891-444E-A39D-6633B91E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E44-126F-42E8-8EA7-9E30F327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3F3C-B5C5-4445-9D23-EF03CBF8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EA5-91CF-4223-B5FC-C53BC3C2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EE7-DEAC-475D-9D1F-1416429C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8693-47F7-4509-97BF-6BEF835AB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6488-4911-4B8B-B176-F042B55AD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e llamo _________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ase 701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 fecha es primero de marzo del 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posito 53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ómo practicamos los verbos de cambio radical para 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IZ 4: Capitulo 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vier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0a0"/>
                </a:solidFill>
                <a:latin typeface="Arial"/>
              </a:rPr>
              <a:t>L.O: to review stem-changing 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ribe 2 oraciones con los verbo de cambio radic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e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m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rbos de la “Bot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m-changing verbs are also known as “BOOT” ver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e the verb in BOOT FOR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evolver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(to return something)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752920" y="3962520"/>
            <a:ext cx="17046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v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v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754720" y="4419720"/>
            <a:ext cx="16862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v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764440" y="4876920"/>
            <a:ext cx="16876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v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v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937840" y="396252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volv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778720" y="441972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volvé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6591600" y="4876920"/>
            <a:ext cx="17028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v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363560" y="487692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303120" y="335268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…..it’s a BOOT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1632240" y="578484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OU ONLY CHANGE WHAT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SID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HE BOOT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"/>
          <p:cNvSpPr/>
          <p:nvPr/>
        </p:nvSpPr>
        <p:spPr>
          <a:xfrm>
            <a:off x="2743200" y="3886200"/>
            <a:ext cx="0" cy="1452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0"/>
          <p:cNvSpPr/>
          <p:nvPr/>
        </p:nvSpPr>
        <p:spPr>
          <a:xfrm flipV="1">
            <a:off x="4419720" y="3886200"/>
            <a:ext cx="0" cy="1014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3"/>
          <p:cNvSpPr/>
          <p:nvPr/>
        </p:nvSpPr>
        <p:spPr>
          <a:xfrm flipH="1">
            <a:off x="4419360" y="4876920"/>
            <a:ext cx="3886200" cy="23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27"/>
          <p:cNvSpPr/>
          <p:nvPr/>
        </p:nvSpPr>
        <p:spPr>
          <a:xfrm flipV="1">
            <a:off x="8305920" y="4832280"/>
            <a:ext cx="0" cy="501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29"/>
          <p:cNvSpPr/>
          <p:nvPr/>
        </p:nvSpPr>
        <p:spPr>
          <a:xfrm flipH="1">
            <a:off x="2754360" y="5334120"/>
            <a:ext cx="5519520" cy="29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31"/>
          <p:cNvSpPr/>
          <p:nvPr/>
        </p:nvSpPr>
        <p:spPr>
          <a:xfrm>
            <a:off x="2754360" y="3886200"/>
            <a:ext cx="1665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15"/>
          <p:cNvCxnSpPr/>
          <p:nvPr/>
        </p:nvCxnSpPr>
        <p:spPr>
          <a:xfrm flipV="1">
            <a:off x="3423960" y="5446440"/>
            <a:ext cx="386280" cy="4212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2" name="Straight Arrow Connector 37"/>
          <p:cNvCxnSpPr/>
          <p:nvPr/>
        </p:nvCxnSpPr>
        <p:spPr>
          <a:xfrm flipH="1" flipV="1">
            <a:off x="7619760" y="5409360"/>
            <a:ext cx="305280" cy="4215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3" name="Straight Arrow Connector 41"/>
          <p:cNvCxnSpPr/>
          <p:nvPr/>
        </p:nvCxnSpPr>
        <p:spPr>
          <a:xfrm flipH="1" flipV="1">
            <a:off x="6323760" y="5409360"/>
            <a:ext cx="305640" cy="421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Y IT 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e 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ug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to be abl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to 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823840" y="274320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783400" y="19033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4192920" y="220968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odé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2823840" y="495288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4262760" y="41911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ugá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719320" y="3881520"/>
            <a:ext cx="11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ga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914400"/>
          <a:ext cx="6934320" cy="2590920"/>
        </p:xfrm>
        <a:graphic>
          <a:graphicData uri="http://schemas.openxmlformats.org/drawingml/2006/table">
            <a:tbl>
              <a:tblPr/>
              <a:tblGrid>
                <a:gridCol w="1206720"/>
                <a:gridCol w="1807920"/>
                <a:gridCol w="2065320"/>
                <a:gridCol w="1854360"/>
              </a:tblGrid>
              <a:tr h="647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er 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o 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31"/>
          <p:cNvSpPr/>
          <p:nvPr/>
        </p:nvSpPr>
        <p:spPr>
          <a:xfrm>
            <a:off x="5334120" y="2209680"/>
            <a:ext cx="1600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Mov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76520" y="3809880"/>
          <a:ext cx="6705360" cy="2667240"/>
        </p:xfrm>
        <a:graphic>
          <a:graphicData uri="http://schemas.openxmlformats.org/drawingml/2006/table">
            <a:tbl>
              <a:tblPr/>
              <a:tblGrid>
                <a:gridCol w="1166760"/>
                <a:gridCol w="1747800"/>
                <a:gridCol w="1819080"/>
                <a:gridCol w="1971720"/>
              </a:tblGrid>
              <a:tr h="666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ver 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o return somew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68"/>
          <p:cNvSpPr/>
          <p:nvPr/>
        </p:nvSpPr>
        <p:spPr>
          <a:xfrm>
            <a:off x="6477120" y="5195880"/>
            <a:ext cx="1600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olv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504200" y="173844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08160" y="47340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ne more ti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280" y="914400"/>
          <a:ext cx="7353360" cy="2590920"/>
        </p:xfrm>
        <a:graphic>
          <a:graphicData uri="http://schemas.openxmlformats.org/drawingml/2006/table">
            <a:tbl>
              <a:tblPr/>
              <a:tblGrid>
                <a:gridCol w="1279800"/>
                <a:gridCol w="1917720"/>
                <a:gridCol w="1755720"/>
                <a:gridCol w="2400120"/>
              </a:tblGrid>
              <a:tr h="647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nt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der 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o under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31"/>
          <p:cNvSpPr/>
          <p:nvPr/>
        </p:nvSpPr>
        <p:spPr>
          <a:xfrm>
            <a:off x="5181480" y="2209680"/>
            <a:ext cx="205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Entend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676520" y="3809880"/>
          <a:ext cx="6705360" cy="2667240"/>
        </p:xfrm>
        <a:graphic>
          <a:graphicData uri="http://schemas.openxmlformats.org/drawingml/2006/table">
            <a:tbl>
              <a:tblPr/>
              <a:tblGrid>
                <a:gridCol w="1166760"/>
                <a:gridCol w="1747800"/>
                <a:gridCol w="1819080"/>
                <a:gridCol w="1971720"/>
              </a:tblGrid>
              <a:tr h="666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Qu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r 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o like w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68"/>
          <p:cNvSpPr/>
          <p:nvPr/>
        </p:nvSpPr>
        <p:spPr>
          <a:xfrm>
            <a:off x="6477120" y="5195880"/>
            <a:ext cx="1600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Quer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7503120" y="17384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46680" y="475776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ga los verbos de bo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0880" y="1371600"/>
          <a:ext cx="8458200" cy="5545080"/>
        </p:xfrm>
        <a:graphic>
          <a:graphicData uri="http://schemas.openxmlformats.org/drawingml/2006/table">
            <a:tbl>
              <a:tblPr/>
              <a:tblGrid>
                <a:gridCol w="1828800"/>
                <a:gridCol w="2590920"/>
                <a:gridCol w="1752480"/>
                <a:gridCol w="2286000"/>
              </a:tblGrid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cou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fe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74"/>
          <p:cNvSpPr/>
          <p:nvPr/>
        </p:nvSpPr>
        <p:spPr>
          <a:xfrm>
            <a:off x="6324480" y="2666880"/>
            <a:ext cx="25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Arial"/>
              </a:rPr>
              <a:t>cont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0"/>
          <p:cNvSpPr/>
          <p:nvPr/>
        </p:nvSpPr>
        <p:spPr>
          <a:xfrm>
            <a:off x="6553080" y="54864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sent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5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LOS VERBOS DE CAMBIO RADICAL O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z 4: Capitulo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FRI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5:09:59Z</dcterms:created>
  <dc:creator>Helen Zumaeta</dc:creator>
  <dc:description/>
  <dc:language>en-US</dc:language>
  <cp:lastModifiedBy>Helen Zumaeta</cp:lastModifiedBy>
  <cp:lastPrinted>2016-03-01T16:08:49Z</cp:lastPrinted>
  <dcterms:modified xsi:type="dcterms:W3CDTF">2016-03-01T19:05:28Z</dcterms:modified>
  <cp:revision>37</cp:revision>
  <dc:subject/>
  <dc:title>Me llamo _________ Clase 7 IM La fecha es 3 de diciembre del 2010</dc:title>
</cp:coreProperties>
</file>